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247-D43D-42F0-BBBA-ACD7BFC1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0FE-1FF8-483A-A65A-98109EE6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5B6-B33D-4308-B6D8-674B78C6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269-66F4-4F64-98B7-A250D851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F087-BE18-49CF-91C8-F8F9E1B2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33A3-9F9B-4EE6-B7D0-A5F9F7D2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E0EB-1E01-4FB1-9D09-D0B3DC69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AEC-9C51-49F0-958B-D7E210F7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04E9-F4A2-4AB9-9D4A-7B3B2C7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E4CD-13AD-420C-A5CF-D12163F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884-F2A7-4142-A99D-808CC02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EF2-2E9C-4ACC-9874-DCF6AC4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AB1F-CB62-4A2E-9A59-3CD9BB1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98B-2569-49F5-8C9D-84D6EA1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A1D-2CBB-473E-95EE-58AEB9F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A6AB-5F29-4C21-929C-AECCE5EF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ABC-3262-4F0B-AD85-FF646C4B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B58-20CB-49D0-850C-8E2C949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A9C-B90B-411A-B825-1BDE74C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313-EE3E-43D6-8FCB-2C839FB9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064-11D4-47BB-A1A7-1E5B59B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FEB-4472-482C-94DE-3361435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293-281C-423E-A434-64ECF36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A27-7975-4BE8-9ECA-B9EEC08B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A3C-2CEB-4C13-92EB-62DDE0ECA321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770-0B70-4D17-869E-48BB4C57D9BE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esent perf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rds and guessing g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m 1: time how long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Sing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Runni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Jump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Fly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Kiss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Stan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2843280" y="1484280"/>
            <a:ext cx="4897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m 2 : time how lo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Stand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Jump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Ea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Look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Sing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Runn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Fly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Kiss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3708360" y="1052640"/>
            <a:ext cx="34560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dverbs :turn arou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0f448"/>
                </a:solidFill>
                <a:latin typeface="Arial"/>
              </a:rPr>
              <a:t>Eating happil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0f448"/>
                </a:solidFill>
                <a:latin typeface="Arial"/>
              </a:rPr>
              <a:t>Drinking  loudl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10:30:03Z</dcterms:created>
  <dc:creator>微软中国</dc:creator>
  <dc:description/>
  <dc:language>en-US</dc:language>
  <cp:lastModifiedBy>edu1</cp:lastModifiedBy>
  <dcterms:modified xsi:type="dcterms:W3CDTF">2014-04-13T00:26:36Z</dcterms:modified>
  <cp:revision>2</cp:revision>
  <dc:subject/>
  <dc:title>Present perfect</dc:title>
</cp:coreProperties>
</file>